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5261-4972-43BB-8122-81694320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37A8-2C00-4102-B81A-F5975941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BEA5-D525-4D8F-BF65-B8C31392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C8C1-517F-479D-8F5B-E545C44C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ED8B-AFFC-4AF9-8205-52EDF27B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380D-AA27-4ACE-800E-61DB9FC5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637A-5176-4D3C-B8FB-38015CF1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0933-59B8-4169-9A65-EAA420DA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E810-5EC0-4FB4-BC8A-949F5602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B074-9494-4BFC-8ACB-4A967393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B27B-8C67-43A9-8E3F-D8DFEE20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411D-B822-41EA-A403-E1DC8D03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1260-BEA9-407B-9CC9-3E2ECCB44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all to Worship (lame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cry to God, we cry alou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day of our troub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seek you, Go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as your steadfast love ceas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or e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Are your promises at an 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Have you forgotten to be grac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and shut up your compa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call God’s deeds to mi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remember your wonders of o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muse up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mighty wor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r way, O God, is holy.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77:1-2, 8-9, 11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41:22Z</dcterms:created>
  <dc:creator>Anon Anon</dc:creator>
  <dc:description/>
  <dc:language>en-US</dc:language>
  <cp:lastModifiedBy>Anon Anon</cp:lastModifiedBy>
  <dcterms:modified xsi:type="dcterms:W3CDTF">2005-08-09T05:35:42Z</dcterms:modified>
  <cp:revision>10</cp:revision>
  <dc:subject/>
  <dc:title>Call to Worship (lament)</dc:title>
</cp:coreProperties>
</file>